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8.wmf" ContentType="image/x-wmf"/>
  <Override PartName="/ppt/media/image11.wmf" ContentType="image/x-wmf"/>
  <Override PartName="/ppt/media/image7.png" ContentType="image/png"/>
  <Override PartName="/ppt/media/image15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10.wmf" ContentType="image/x-wmf"/>
  <Override PartName="/ppt/media/image2.png" ContentType="image/png"/>
  <Override PartName="/ppt/media/image3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5.wmf" ContentType="image/x-wmf"/>
  <Override PartName="/ppt/media/image6.png" ContentType="image/png"/>
  <Override PartName="/ppt/media/image1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834039" descr=""/>
          <p:cNvPicPr/>
          <p:nvPr/>
        </p:nvPicPr>
        <p:blipFill>
          <a:blip r:embed="rId2"/>
          <a:srcRect l="0" t="0" r="11110" b="0"/>
          <a:stretch/>
        </p:blipFill>
        <p:spPr>
          <a:xfrm>
            <a:off x="0" y="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1905120"/>
            <a:ext cx="9144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Obje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Reconhecer a água como bem econôm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Incentivar o uso ra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Obter recursos financeiros para os programas contemplados nos plan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ffff"/>
                </a:solidFill>
                <a:latin typeface="Arial"/>
              </a:rPr>
              <a:t>Constituição Estadual - Artigo 2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ffff"/>
                </a:solidFill>
                <a:latin typeface="Arial"/>
              </a:rPr>
              <a:t>Utilização dos recursos hídricos será cobrada segundo as peculiaridades de cada bacia, na forma da lei, e aplicado em serviços e obras hidráulicas e de saneamento de interesse comum, previstos nos planos estaduais de recursos hídricos e de saneamento bás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1521000" y="228600"/>
            <a:ext cx="5600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cc00"/>
                </a:solidFill>
                <a:latin typeface="Arial"/>
              </a:rPr>
              <a:t>Cobrança pelo Uso da Água</a:t>
            </a:r>
            <a:br>
              <a:rPr sz="3200"/>
            </a:br>
            <a:r>
              <a:rPr b="1" lang="pt-BR" sz="3200" spc="-1" strike="noStrike">
                <a:solidFill>
                  <a:srgbClr val="ffcc00"/>
                </a:solidFill>
                <a:latin typeface="Arial"/>
              </a:rPr>
              <a:t>Estado de São Paul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685800" y="22860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Participação da Água na Estrutura 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Custos das 20 Empresas (%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57200" y="1066680"/>
            <a:ext cx="8305920" cy="53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82760"/>
                <a:tab algn="l" pos="3143160"/>
                <a:tab algn="ctr" pos="3714840"/>
                <a:tab algn="l" pos="4667400"/>
                <a:tab algn="dec" pos="4952880"/>
                <a:tab algn="l" pos="5715000"/>
                <a:tab algn="dec" pos="6286680"/>
                <a:tab algn="l" pos="7143840"/>
                <a:tab algn="dec" pos="762012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cc00"/>
                </a:solidFill>
                <a:latin typeface="Arial"/>
              </a:rPr>
              <a:t>CUSTOS DIRETOS </a:t>
            </a:r>
            <a:r>
              <a:rPr b="1" lang="pt-BR" sz="18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ffcc00"/>
                </a:solidFill>
                <a:latin typeface="Arial"/>
              </a:rPr>
              <a:t>INFERIOR </a:t>
            </a:r>
            <a:r>
              <a:rPr b="1" lang="pt-BR" sz="18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ffcc00"/>
                </a:solidFill>
                <a:latin typeface="Arial"/>
              </a:rPr>
              <a:t>MÉDIA </a:t>
            </a:r>
            <a:r>
              <a:rPr b="1" lang="pt-BR" sz="18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ffcc00"/>
                </a:solidFill>
                <a:latin typeface="Arial"/>
              </a:rPr>
              <a:t>SUPERIOR </a:t>
            </a:r>
            <a:r>
              <a:rPr b="1" lang="pt-BR" sz="18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ffcc00"/>
                </a:solidFill>
                <a:latin typeface="Arial"/>
              </a:rPr>
              <a:t>DESV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82760"/>
                <a:tab algn="l" pos="3143160"/>
                <a:tab algn="ctr" pos="3714840"/>
                <a:tab algn="l" pos="4667400"/>
                <a:tab algn="dec" pos="4952880"/>
                <a:tab algn="l" pos="5715000"/>
                <a:tab algn="dec" pos="6286680"/>
                <a:tab algn="l" pos="7143840"/>
                <a:tab algn="dec" pos="762012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Matérias Primas </a:t>
            </a: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33,40 </a:t>
            </a: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57,01 </a:t>
            </a: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85,00 </a:t>
            </a: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18,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82760"/>
                <a:tab algn="l" pos="3143160"/>
                <a:tab algn="ctr" pos="3714840"/>
                <a:tab algn="l" pos="4667400"/>
                <a:tab algn="dec" pos="4952880"/>
                <a:tab algn="l" pos="5715000"/>
                <a:tab algn="dec" pos="6286680"/>
                <a:tab algn="l" pos="7143840"/>
                <a:tab algn="dec" pos="762012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Mão de Obra </a:t>
            </a: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5,00 </a:t>
            </a: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16,72 </a:t>
            </a: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26,28 </a:t>
            </a: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7,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82760"/>
                <a:tab algn="l" pos="3143160"/>
                <a:tab algn="ctr" pos="3714840"/>
                <a:tab algn="l" pos="4667400"/>
                <a:tab algn="dec" pos="4952880"/>
                <a:tab algn="l" pos="5715000"/>
                <a:tab algn="dec" pos="6286680"/>
                <a:tab algn="l" pos="7143840"/>
                <a:tab algn="dec" pos="762012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Diretamente na Produção </a:t>
            </a: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3,50 </a:t>
            </a: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8,44 </a:t>
            </a: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22,50 </a:t>
            </a: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4,4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82760"/>
                <a:tab algn="l" pos="3143160"/>
                <a:tab algn="ctr" pos="3714840"/>
                <a:tab algn="l" pos="4667400"/>
                <a:tab algn="dec" pos="4952880"/>
                <a:tab algn="l" pos="5715000"/>
                <a:tab algn="dec" pos="6286680"/>
                <a:tab algn="l" pos="7143840"/>
                <a:tab algn="dec" pos="762012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Demais Atividades </a:t>
            </a: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0,00 </a:t>
            </a: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8,28 </a:t>
            </a: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25,45 </a:t>
            </a: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6,3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82760"/>
                <a:tab algn="l" pos="3143160"/>
                <a:tab algn="ctr" pos="3714840"/>
                <a:tab algn="l" pos="4667400"/>
                <a:tab algn="dec" pos="4952880"/>
                <a:tab algn="l" pos="5715000"/>
                <a:tab algn="dec" pos="6286680"/>
                <a:tab algn="l" pos="7143840"/>
                <a:tab algn="dec" pos="762012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Materiais Acessórios/utilidad </a:t>
            </a: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2,70 </a:t>
            </a: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13,82 </a:t>
            </a: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40,10 </a:t>
            </a: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10,4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82760"/>
                <a:tab algn="l" pos="3143160"/>
                <a:tab algn="ctr" pos="3714840"/>
                <a:tab algn="l" pos="4667400"/>
                <a:tab algn="dec" pos="4952880"/>
                <a:tab algn="l" pos="5715000"/>
                <a:tab algn="dec" pos="6286680"/>
                <a:tab algn="l" pos="7143840"/>
                <a:tab algn="dec" pos="762012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Energia </a:t>
            </a: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0,73 </a:t>
            </a: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5,74 </a:t>
            </a: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20,80 </a:t>
            </a: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4,6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82760"/>
                <a:tab algn="l" pos="3143160"/>
                <a:tab algn="ctr" pos="3714840"/>
                <a:tab algn="l" pos="4667400"/>
                <a:tab algn="dec" pos="4952880"/>
                <a:tab algn="l" pos="5715000"/>
                <a:tab algn="dec" pos="6286680"/>
                <a:tab algn="l" pos="7143840"/>
                <a:tab algn="dec" pos="762012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cc3300"/>
                </a:solidFill>
                <a:latin typeface="Arial"/>
              </a:rPr>
              <a:t>Tratamento de Efluentes </a:t>
            </a:r>
            <a:r>
              <a:rPr b="1" lang="pt-BR" sz="16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cc3300"/>
                </a:solidFill>
                <a:latin typeface="Arial"/>
              </a:rPr>
              <a:t>0,00 </a:t>
            </a:r>
            <a:r>
              <a:rPr b="1" lang="pt-BR" sz="16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cc3300"/>
                </a:solidFill>
                <a:latin typeface="Arial"/>
              </a:rPr>
              <a:t>0,72 </a:t>
            </a:r>
            <a:r>
              <a:rPr b="1" lang="pt-BR" sz="16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cc3300"/>
                </a:solidFill>
                <a:latin typeface="Arial"/>
              </a:rPr>
              <a:t>2,00 </a:t>
            </a:r>
            <a:r>
              <a:rPr b="1" lang="pt-BR" sz="16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cc3300"/>
                </a:solidFill>
                <a:latin typeface="Arial"/>
              </a:rPr>
              <a:t>0,6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82760"/>
                <a:tab algn="l" pos="3143160"/>
                <a:tab algn="ctr" pos="3714840"/>
                <a:tab algn="l" pos="4667400"/>
                <a:tab algn="dec" pos="4952880"/>
                <a:tab algn="l" pos="5715000"/>
                <a:tab algn="dec" pos="6286680"/>
                <a:tab algn="l" pos="7143840"/>
                <a:tab algn="dec" pos="762012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cc00"/>
                </a:solidFill>
                <a:latin typeface="Arial"/>
              </a:rPr>
              <a:t>Água </a:t>
            </a:r>
            <a:r>
              <a:rPr b="1" lang="pt-BR" sz="16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ffcc00"/>
                </a:solidFill>
                <a:latin typeface="Arial"/>
              </a:rPr>
              <a:t>0,00 </a:t>
            </a:r>
            <a:r>
              <a:rPr b="1" lang="pt-BR" sz="16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ffcc00"/>
                </a:solidFill>
                <a:latin typeface="Arial"/>
              </a:rPr>
              <a:t>1,37</a:t>
            </a:r>
            <a:r>
              <a:rPr b="1" lang="pt-BR" sz="16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ffcc00"/>
                </a:solidFill>
                <a:latin typeface="Arial"/>
              </a:rPr>
              <a:t>8,70 </a:t>
            </a:r>
            <a:r>
              <a:rPr b="1" lang="pt-BR" sz="16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ffcc00"/>
                </a:solidFill>
                <a:latin typeface="Arial"/>
              </a:rPr>
              <a:t>2,1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82760"/>
                <a:tab algn="l" pos="3143160"/>
                <a:tab algn="ctr" pos="3714840"/>
                <a:tab algn="l" pos="4667400"/>
                <a:tab algn="dec" pos="4952880"/>
                <a:tab algn="l" pos="5715000"/>
                <a:tab algn="dec" pos="6286680"/>
                <a:tab algn="l" pos="7143840"/>
                <a:tab algn="dec" pos="762012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ffcc00"/>
                </a:solidFill>
                <a:latin typeface="Arial"/>
              </a:rPr>
              <a:t>Conta de Água (rede) </a:t>
            </a:r>
            <a:r>
              <a:rPr b="1" lang="pt-BR" sz="16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ffcc00"/>
                </a:solidFill>
                <a:latin typeface="Arial"/>
              </a:rPr>
              <a:t>0,00 </a:t>
            </a:r>
            <a:r>
              <a:rPr b="1" lang="pt-BR" sz="16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ffcc00"/>
                </a:solidFill>
                <a:latin typeface="Arial"/>
              </a:rPr>
              <a:t>0,58 </a:t>
            </a:r>
            <a:r>
              <a:rPr b="1" lang="pt-BR" sz="16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ffcc00"/>
                </a:solidFill>
                <a:latin typeface="Arial"/>
              </a:rPr>
              <a:t>8,70 </a:t>
            </a:r>
            <a:r>
              <a:rPr b="1" lang="pt-BR" sz="16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ffcc00"/>
                </a:solidFill>
                <a:latin typeface="Arial"/>
              </a:rPr>
              <a:t>2,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82760"/>
                <a:tab algn="l" pos="3143160"/>
                <a:tab algn="ctr" pos="3714840"/>
                <a:tab algn="l" pos="4667400"/>
                <a:tab algn="dec" pos="4952880"/>
                <a:tab algn="l" pos="5715000"/>
                <a:tab algn="dec" pos="6286680"/>
                <a:tab algn="l" pos="7143840"/>
                <a:tab algn="dec" pos="762012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ffcc00"/>
                </a:solidFill>
                <a:latin typeface="Arial"/>
              </a:rPr>
              <a:t>Tratamento próprio p/ uso </a:t>
            </a:r>
            <a:r>
              <a:rPr b="1" lang="pt-BR" sz="16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ffcc00"/>
                </a:solidFill>
                <a:latin typeface="Arial"/>
              </a:rPr>
              <a:t>0,00 </a:t>
            </a:r>
            <a:r>
              <a:rPr b="1" lang="pt-BR" sz="16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ffcc00"/>
                </a:solidFill>
                <a:latin typeface="Arial"/>
              </a:rPr>
              <a:t>0,79</a:t>
            </a:r>
            <a:r>
              <a:rPr b="1" lang="pt-BR" sz="16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ffcc00"/>
                </a:solidFill>
                <a:latin typeface="Arial"/>
              </a:rPr>
              <a:t>5,48 </a:t>
            </a:r>
            <a:r>
              <a:rPr b="1" lang="pt-BR" sz="16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ffcc00"/>
                </a:solidFill>
                <a:latin typeface="Arial"/>
              </a:rPr>
              <a:t>1,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82760"/>
                <a:tab algn="l" pos="3143160"/>
                <a:tab algn="ctr" pos="3714840"/>
                <a:tab algn="l" pos="4667400"/>
                <a:tab algn="dec" pos="4952880"/>
                <a:tab algn="l" pos="5715000"/>
                <a:tab algn="dec" pos="6286680"/>
                <a:tab algn="l" pos="7143840"/>
                <a:tab algn="dec" pos="762012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Outros </a:t>
            </a: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0,00 </a:t>
            </a: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6,00</a:t>
            </a: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33,00 </a:t>
            </a: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8,5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82760"/>
                <a:tab algn="l" pos="3143160"/>
                <a:tab algn="ctr" pos="3714840"/>
                <a:tab algn="l" pos="4667400"/>
                <a:tab algn="dec" pos="4952880"/>
                <a:tab algn="l" pos="5715000"/>
                <a:tab algn="dec" pos="6286680"/>
                <a:tab algn="l" pos="7143840"/>
                <a:tab algn="dec" pos="762012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Outros (Transportes etc) </a:t>
            </a: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0,00 </a:t>
            </a: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10,48</a:t>
            </a: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34,00 </a:t>
            </a: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10,78</a:t>
            </a:r>
            <a:br>
              <a:rPr sz="1600"/>
            </a:br>
            <a:br>
              <a:rPr sz="1600"/>
            </a:b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Levantamento nas Bacias do Alto Tietê, Baixada e Piracicaba -  CNEC/FIPE 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57200" y="1066680"/>
            <a:ext cx="8458200" cy="0"/>
          </a:xfrm>
          <a:prstGeom prst="line">
            <a:avLst/>
          </a:prstGeom>
          <a:ln w="38160">
            <a:solidFill>
              <a:srgbClr val="cdf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57200" y="1447920"/>
            <a:ext cx="8381880" cy="0"/>
          </a:xfrm>
          <a:prstGeom prst="line">
            <a:avLst/>
          </a:prstGeom>
          <a:ln w="38160">
            <a:solidFill>
              <a:srgbClr val="cdf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5867280"/>
            <a:ext cx="8381880" cy="0"/>
          </a:xfrm>
          <a:prstGeom prst="line">
            <a:avLst/>
          </a:prstGeom>
          <a:ln w="38160">
            <a:solidFill>
              <a:srgbClr val="cdf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0" y="380880"/>
          <a:ext cx="9144000" cy="4845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80880"/>
                    <a:ext cx="9144000" cy="484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192960" y="5257800"/>
            <a:ext cx="874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IBC - Racionalização do uso e reuso da água - São Paulo 19 e 20/06/02,</a:t>
            </a:r>
            <a:br>
              <a:rPr sz="2000"/>
            </a:b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ANFAVEA, Jornal Valor Econômico/junho/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" name=""/>
          <p:cNvGraphicFramePr/>
          <p:nvPr/>
        </p:nvGraphicFramePr>
        <p:xfrm>
          <a:off x="457200" y="1447920"/>
          <a:ext cx="8339040" cy="2392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339040" cy="239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" name=""/>
          <p:cNvSpPr/>
          <p:nvPr/>
        </p:nvSpPr>
        <p:spPr>
          <a:xfrm>
            <a:off x="457200" y="4114800"/>
            <a:ext cx="792468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 u="sng">
                <a:solidFill>
                  <a:srgbClr val="ffcc00"/>
                </a:solidFill>
                <a:uFillTx/>
                <a:latin typeface="Arial"/>
              </a:rPr>
              <a:t>Cenário radical </a:t>
            </a:r>
            <a:r>
              <a:rPr b="1" lang="pt-BR" sz="2000" spc="-1" strike="noStrike">
                <a:solidFill>
                  <a:srgbClr val="ffcc00"/>
                </a:solidFill>
                <a:latin typeface="Arial"/>
              </a:rPr>
              <a:t>: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Plano de investimento para os próximos 25 anos executados integralmente com os recursos da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 cobranç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 u="sng">
                <a:solidFill>
                  <a:srgbClr val="ffcc00"/>
                </a:solidFill>
                <a:uFillTx/>
                <a:latin typeface="Arial"/>
              </a:rPr>
              <a:t>Cenário conservador </a:t>
            </a:r>
            <a:r>
              <a:rPr b="1" lang="pt-BR" sz="2000" spc="-1" strike="noStrike">
                <a:solidFill>
                  <a:srgbClr val="ffcc00"/>
                </a:solidFill>
                <a:latin typeface="Arial"/>
              </a:rPr>
              <a:t>: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20% do investimento to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fabrica" descr=""/>
          <p:cNvPicPr/>
          <p:nvPr/>
        </p:nvPicPr>
        <p:blipFill>
          <a:blip r:embed="rId3"/>
          <a:stretch/>
        </p:blipFill>
        <p:spPr>
          <a:xfrm>
            <a:off x="457200" y="0"/>
            <a:ext cx="2828880" cy="132552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3352680" y="228600"/>
            <a:ext cx="54104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cc00"/>
                </a:solidFill>
                <a:latin typeface="Arial"/>
              </a:rPr>
              <a:t>Preços unitários p/ cobrança no cenário radical (R$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5410080"/>
            <a:ext cx="8397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Água(1) = tratamento para uso + conta de água da rede</a:t>
            </a: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Água(2) = Água(1) + cobrança pela captação + cobrança pelo consu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Efluentes(1) = tratamento de descarte + esgoto em rede</a:t>
            </a: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Efluentes(2) = Efluentes(1) + cobrança pelo lançamento de DBO</a:t>
            </a: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água2" descr=""/>
          <p:cNvPicPr/>
          <p:nvPr/>
        </p:nvPicPr>
        <p:blipFill>
          <a:blip r:embed="rId1"/>
          <a:srcRect l="36451" t="40260" r="35808" b="58106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ffcc00"/>
                </a:solidFill>
                <a:latin typeface="Arial"/>
              </a:rPr>
              <a:t>Custo da água no cenário radical </a:t>
            </a:r>
            <a:br>
              <a:rPr sz="2800"/>
            </a:br>
            <a:r>
              <a:rPr b="1" i="1" lang="pt-BR" sz="2000" spc="-1" strike="noStrike">
                <a:solidFill>
                  <a:srgbClr val="ffcc00"/>
                </a:solidFill>
                <a:latin typeface="Arial"/>
              </a:rPr>
              <a:t>(% sobre faturament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457200" y="838080"/>
          <a:ext cx="8229600" cy="57150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838080"/>
                    <a:ext cx="822960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"/>
          <p:cNvGraphicFramePr/>
          <p:nvPr/>
        </p:nvGraphicFramePr>
        <p:xfrm>
          <a:off x="304920" y="990720"/>
          <a:ext cx="9090000" cy="3438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990720"/>
                    <a:ext cx="9090000" cy="343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4" name=""/>
          <p:cNvGraphicFramePr/>
          <p:nvPr/>
        </p:nvGraphicFramePr>
        <p:xfrm>
          <a:off x="990720" y="152280"/>
          <a:ext cx="9601200" cy="6137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52280"/>
                    <a:ext cx="9601200" cy="613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2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cc00"/>
                </a:solidFill>
                <a:latin typeface="Arial"/>
              </a:rPr>
              <a:t>Estado do Paraná</a:t>
            </a:r>
            <a:br>
              <a:rPr sz="3200"/>
            </a:br>
            <a:r>
              <a:rPr b="1" lang="pt-BR" sz="3200" spc="-1" strike="noStrike">
                <a:solidFill>
                  <a:srgbClr val="ffcc00"/>
                </a:solidFill>
                <a:latin typeface="Arial"/>
              </a:rPr>
              <a:t>Valores Iniciais Utilizados para Simulaçõ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380880" y="1219320"/>
            <a:ext cx="8382240" cy="56386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25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cc00"/>
                </a:solidFill>
                <a:latin typeface="Arial"/>
              </a:rPr>
              <a:t>Estado do Paraná</a:t>
            </a:r>
            <a:br>
              <a:rPr sz="3200"/>
            </a:br>
            <a:r>
              <a:rPr b="1" lang="pt-BR" sz="3200" spc="-1" strike="noStrike">
                <a:solidFill>
                  <a:srgbClr val="ffcc00"/>
                </a:solidFill>
                <a:latin typeface="Arial"/>
              </a:rPr>
              <a:t>Impacto Regional sobre Setor Industr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380880" y="990720"/>
            <a:ext cx="8534520" cy="56512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-142920" y="151920"/>
            <a:ext cx="9390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cc00"/>
                </a:solidFill>
                <a:latin typeface="Arial"/>
              </a:rPr>
              <a:t>Estado do Paraná</a:t>
            </a:r>
            <a:br>
              <a:rPr sz="3200"/>
            </a:br>
            <a:r>
              <a:rPr b="1" lang="pt-BR" sz="3200" spc="-1" strike="noStrike">
                <a:solidFill>
                  <a:srgbClr val="ffcc00"/>
                </a:solidFill>
                <a:latin typeface="Arial"/>
              </a:rPr>
              <a:t>Regulamentação:Estudos de Casos Industria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76320" y="1447920"/>
            <a:ext cx="8991360" cy="54100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Decreto Estadual n</a:t>
            </a:r>
            <a:r>
              <a:rPr b="1" lang="pt-BR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º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 5361, de 26/2002 - Paraná</a:t>
            </a:r>
            <a:br>
              <a:rPr sz="6600"/>
            </a:b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Parâmetros a Serem Cobra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0676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lvl="1" marL="822600" indent="-27396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1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pt-BR" sz="2400" spc="-1" strike="noStrike">
                <a:solidFill>
                  <a:srgbClr val="f7fc22"/>
                </a:solidFill>
                <a:latin typeface="Times New Roman"/>
                <a:ea typeface="Arial"/>
              </a:rPr>
              <a:t>Volume Captado (R$/m</a:t>
            </a:r>
            <a:r>
              <a:rPr b="0" lang="pt-BR" sz="2400" spc="-1" strike="noStrike" baseline="30000">
                <a:solidFill>
                  <a:srgbClr val="f7fc22"/>
                </a:solidFill>
                <a:latin typeface="Times New Roman"/>
                <a:ea typeface="Arial"/>
              </a:rPr>
              <a:t>3</a:t>
            </a:r>
            <a:r>
              <a:rPr b="0" lang="pt-BR" sz="2400" spc="-1" strike="noStrike">
                <a:solidFill>
                  <a:srgbClr val="f7fc22"/>
                </a:solidFill>
                <a:latin typeface="Times New Roman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22600" indent="-273960">
              <a:lnSpc>
                <a:spcPct val="150000"/>
              </a:lnSpc>
              <a:spcBef>
                <a:spcPts val="601"/>
              </a:spcBef>
              <a:buClr>
                <a:srgbClr val="f7fc2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7fc22"/>
                </a:solidFill>
                <a:latin typeface="Times New Roman"/>
                <a:ea typeface="Arial"/>
              </a:rPr>
              <a:t> </a:t>
            </a:r>
            <a:r>
              <a:rPr b="0" lang="pt-BR" sz="2400" spc="-1" strike="noStrike">
                <a:solidFill>
                  <a:srgbClr val="f7fc22"/>
                </a:solidFill>
                <a:latin typeface="Times New Roman"/>
                <a:ea typeface="Arial"/>
              </a:rPr>
              <a:t>Volume Consumido (R$/m</a:t>
            </a:r>
            <a:r>
              <a:rPr b="0" lang="pt-BR" sz="2400" spc="-1" strike="noStrike" baseline="30000">
                <a:solidFill>
                  <a:srgbClr val="f7fc22"/>
                </a:solidFill>
                <a:latin typeface="Times New Roman"/>
                <a:ea typeface="Arial"/>
              </a:rPr>
              <a:t>3</a:t>
            </a:r>
            <a:r>
              <a:rPr b="0" lang="pt-BR" sz="2400" spc="-1" strike="noStrike">
                <a:solidFill>
                  <a:srgbClr val="f7fc22"/>
                </a:solidFill>
                <a:latin typeface="Times New Roman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22600" indent="-273960">
              <a:lnSpc>
                <a:spcPct val="150000"/>
              </a:lnSpc>
              <a:spcBef>
                <a:spcPts val="601"/>
              </a:spcBef>
              <a:buClr>
                <a:srgbClr val="f7fc2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7fc22"/>
                </a:solidFill>
                <a:latin typeface="Times New Roman"/>
                <a:ea typeface="Arial"/>
              </a:rPr>
              <a:t> </a:t>
            </a:r>
            <a:r>
              <a:rPr b="0" lang="pt-BR" sz="2400" spc="-1" strike="noStrike">
                <a:solidFill>
                  <a:srgbClr val="f7fc22"/>
                </a:solidFill>
                <a:latin typeface="Times New Roman"/>
                <a:ea typeface="Arial"/>
              </a:rPr>
              <a:t>Volume Derivado (R$/m</a:t>
            </a:r>
            <a:r>
              <a:rPr b="0" lang="pt-BR" sz="2400" spc="-1" strike="noStrike" baseline="30000">
                <a:solidFill>
                  <a:srgbClr val="f7fc22"/>
                </a:solidFill>
                <a:latin typeface="Times New Roman"/>
                <a:ea typeface="Arial"/>
              </a:rPr>
              <a:t>3</a:t>
            </a:r>
            <a:r>
              <a:rPr b="0" lang="pt-BR" sz="2400" spc="-1" strike="noStrike">
                <a:solidFill>
                  <a:srgbClr val="f7fc22"/>
                </a:solidFill>
                <a:latin typeface="Times New Roman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22600" indent="-273960">
              <a:lnSpc>
                <a:spcPct val="150000"/>
              </a:lnSpc>
              <a:spcBef>
                <a:spcPts val="601"/>
              </a:spcBef>
              <a:buClr>
                <a:srgbClr val="f7fc2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7fc22"/>
                </a:solidFill>
                <a:latin typeface="Times New Roman"/>
                <a:ea typeface="Arial"/>
              </a:rPr>
              <a:t> </a:t>
            </a:r>
            <a:r>
              <a:rPr b="0" lang="pt-BR" sz="2400" spc="-1" strike="noStrike">
                <a:solidFill>
                  <a:srgbClr val="f7fc22"/>
                </a:solidFill>
                <a:latin typeface="Times New Roman"/>
                <a:ea typeface="Arial"/>
              </a:rPr>
              <a:t>Volume Extraído (R$/m</a:t>
            </a:r>
            <a:r>
              <a:rPr b="0" lang="pt-BR" sz="2400" spc="-1" strike="noStrike" baseline="30000">
                <a:solidFill>
                  <a:srgbClr val="f7fc22"/>
                </a:solidFill>
                <a:latin typeface="Times New Roman"/>
                <a:ea typeface="Arial"/>
              </a:rPr>
              <a:t>3</a:t>
            </a:r>
            <a:r>
              <a:rPr b="0" lang="pt-BR" sz="2400" spc="-1" strike="noStrike">
                <a:solidFill>
                  <a:srgbClr val="f7fc22"/>
                </a:solidFill>
                <a:latin typeface="Times New Roman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22600" indent="-273960">
              <a:lnSpc>
                <a:spcPct val="150000"/>
              </a:lnSpc>
              <a:spcBef>
                <a:spcPts val="601"/>
              </a:spcBef>
              <a:buClr>
                <a:srgbClr val="f7fc2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7fc22"/>
                </a:solidFill>
                <a:latin typeface="Times New Roman"/>
                <a:ea typeface="Arial"/>
              </a:rPr>
              <a:t> </a:t>
            </a:r>
            <a:r>
              <a:rPr b="0" lang="pt-BR" sz="2400" spc="-1" strike="noStrike">
                <a:solidFill>
                  <a:srgbClr val="f7fc22"/>
                </a:solidFill>
                <a:latin typeface="Times New Roman"/>
                <a:ea typeface="Arial"/>
              </a:rPr>
              <a:t>DBO</a:t>
            </a:r>
            <a:r>
              <a:rPr b="0" lang="pt-BR" sz="2400" spc="-1" strike="noStrike" baseline="-30000">
                <a:solidFill>
                  <a:srgbClr val="f7fc22"/>
                </a:solidFill>
                <a:latin typeface="Times New Roman"/>
                <a:ea typeface="Arial"/>
              </a:rPr>
              <a:t>5 </a:t>
            </a:r>
            <a:r>
              <a:rPr b="0" lang="pt-BR" sz="2400" spc="-1" strike="noStrike">
                <a:solidFill>
                  <a:srgbClr val="f7fc22"/>
                </a:solidFill>
                <a:latin typeface="Times New Roman"/>
                <a:ea typeface="Arial"/>
              </a:rPr>
              <a:t>(R$/k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22600" indent="-273960">
              <a:lnSpc>
                <a:spcPct val="150000"/>
              </a:lnSpc>
              <a:spcBef>
                <a:spcPts val="601"/>
              </a:spcBef>
              <a:buClr>
                <a:srgbClr val="f7fc2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7fc22"/>
                </a:solidFill>
                <a:latin typeface="Times New Roman"/>
                <a:ea typeface="Times New Roman"/>
              </a:rPr>
              <a:t> </a:t>
            </a:r>
            <a:r>
              <a:rPr b="0" lang="pt-BR" sz="2400" spc="-1" strike="noStrike">
                <a:solidFill>
                  <a:srgbClr val="f7fc22"/>
                </a:solidFill>
                <a:latin typeface="Times New Roman"/>
                <a:ea typeface="Times New Roman"/>
              </a:rPr>
              <a:t>Sólidos em Suspensão </a:t>
            </a:r>
            <a:r>
              <a:rPr b="0" lang="pt-BR" sz="2400" spc="-1" strike="noStrike">
                <a:solidFill>
                  <a:srgbClr val="f7fc22"/>
                </a:solidFill>
                <a:latin typeface="Times New Roman"/>
                <a:ea typeface="Arial"/>
              </a:rPr>
              <a:t>(R$/k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22600" indent="-273960">
              <a:lnSpc>
                <a:spcPct val="150000"/>
              </a:lnSpc>
              <a:spcBef>
                <a:spcPts val="601"/>
              </a:spcBef>
              <a:buClr>
                <a:srgbClr val="f7fc2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7fc22"/>
                </a:solidFill>
                <a:latin typeface="Times New Roman"/>
                <a:ea typeface="Arial"/>
              </a:rPr>
              <a:t> </a:t>
            </a:r>
            <a:r>
              <a:rPr b="0" lang="pt-BR" sz="2400" spc="-1" strike="noStrike">
                <a:solidFill>
                  <a:srgbClr val="f7fc22"/>
                </a:solidFill>
                <a:latin typeface="Times New Roman"/>
                <a:ea typeface="Arial"/>
              </a:rPr>
              <a:t>Diferença entre DQO e DBO</a:t>
            </a:r>
            <a:r>
              <a:rPr b="0" lang="pt-BR" sz="2400" spc="-1" strike="noStrike" baseline="-30000">
                <a:solidFill>
                  <a:srgbClr val="f7fc22"/>
                </a:solidFill>
                <a:latin typeface="Times New Roman"/>
                <a:ea typeface="Arial"/>
              </a:rPr>
              <a:t>5  </a:t>
            </a:r>
            <a:r>
              <a:rPr b="0" lang="pt-BR" sz="2400" spc="-1" strike="noStrike">
                <a:solidFill>
                  <a:srgbClr val="f7fc22"/>
                </a:solidFill>
                <a:latin typeface="Times New Roman"/>
                <a:ea typeface="Arial"/>
              </a:rPr>
              <a:t>(R$/k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22600" indent="-273960">
              <a:lnSpc>
                <a:spcPct val="150000"/>
              </a:lnSpc>
              <a:spcBef>
                <a:spcPts val="601"/>
              </a:spcBef>
              <a:buClr>
                <a:srgbClr val="f7fc2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7fc22"/>
                </a:solidFill>
                <a:latin typeface="Times New Roman"/>
                <a:ea typeface="Arial"/>
              </a:rPr>
              <a:t> </a:t>
            </a:r>
            <a:r>
              <a:rPr b="0" lang="pt-BR" sz="2400" spc="-1" strike="noStrike">
                <a:solidFill>
                  <a:srgbClr val="f7fc22"/>
                </a:solidFill>
                <a:latin typeface="Times New Roman"/>
                <a:ea typeface="Arial"/>
              </a:rPr>
              <a:t>Parâmetros Adicionais: </a:t>
            </a:r>
            <a:r>
              <a:rPr b="0" lang="pt-BR" sz="2400" spc="-1" strike="noStrike">
                <a:solidFill>
                  <a:srgbClr val="f7fc22"/>
                </a:solidFill>
                <a:latin typeface="Times New Roman"/>
                <a:ea typeface="Times New Roman"/>
              </a:rPr>
              <a:t>incorporados à fórmula por solicitação dos CBH’s, mediante aprovação do CERH/PR</a:t>
            </a:r>
            <a:r>
              <a:rPr b="0" lang="pt-BR" sz="2400" spc="-1" strike="noStrike">
                <a:solidFill>
                  <a:srgbClr val="f7fc22"/>
                </a:solidFill>
                <a:latin typeface="Times New Roman"/>
                <a:ea typeface="Arial"/>
              </a:rPr>
              <a:t> </a:t>
            </a:r>
            <a:r>
              <a:rPr b="0" lang="pt-BR" sz="2400" spc="-1" strike="noStrike" baseline="30000">
                <a:solidFill>
                  <a:srgbClr val="f7fc22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59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ffff"/>
                </a:solidFill>
                <a:latin typeface="Arial"/>
              </a:rPr>
              <a:t>Lei 7.663/91 - De recursos hídricos - Artigo 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100" spc="-1" strike="noStrike">
                <a:solidFill>
                  <a:srgbClr val="ffffff"/>
                </a:solidFill>
                <a:latin typeface="Arial"/>
              </a:rPr>
              <a:t>Utilização será cobrada na forma estabelecida nesta lei e em seu regulamento, obedecidos os seguintes critérios: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100" spc="-1" strike="noStrike">
                <a:solidFill>
                  <a:srgbClr val="ffffff"/>
                </a:solidFill>
                <a:latin typeface="Arial"/>
              </a:rPr>
              <a:t>- cobrança pelo uso ou derivação, considerará a classe de uso preponderante em que for enquadrado o corpo d`água onde se localiza o uso ou derivação, a disponibilidade hídrica local, o grau de regularização assegurado por obras hidráulicas, a vazão captada em seu regime de variação, o consumo efetivo e a finalidade a que se destina; 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100" spc="-1" strike="noStrike">
                <a:solidFill>
                  <a:srgbClr val="ffffff"/>
                </a:solidFill>
                <a:latin typeface="Arial"/>
              </a:rPr>
              <a:t>- cobrança pela diluição, transporte e assimilação de efluentes de sistemas de esgotos e de outros líquidos, de qualquer natureza, considerará a classe de uso em que for enquadrado o corpo d'água receptor, o grau de regularização assegurado por obras hidráulicas, a carga lançada e seu regime de variação, ponderando-se, dentre outros, os parâmetros orgânicos físico-químicos dos efluentes e a natureza da atividade responsável pelos mesmos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Paraná : Fórmulas de Cobrança: Coeficiente Regional K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0" y="91404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04472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Refere-se à possibilidade de serem estabelecidas diferenciações entre regiões de uma mesma bacia hidrográfica, levando-se em consideração os seguintes fatores, cuja escala será proposta pela SUDERHS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10160" indent="-43668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104472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Fator F</a:t>
            </a:r>
            <a:r>
              <a:rPr b="0" lang="pt-BR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: a classe preponderante de uso em que esteja enquadrado o corpo de água objeto de utiliza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10160" indent="-43668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104472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Fator F</a:t>
            </a:r>
            <a:r>
              <a:rPr b="0" lang="pt-BR" sz="2400" spc="-1" strike="noStrike" baseline="-25000">
                <a:solidFill>
                  <a:srgbClr val="ffffff"/>
                </a:solidFill>
                <a:latin typeface="Times New Roman"/>
              </a:rPr>
              <a:t>II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: as prioridades regionais e as funções social, econômica e ecológica da águ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10160" indent="-43668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104472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Fator F</a:t>
            </a:r>
            <a:r>
              <a:rPr b="0" lang="pt-BR" sz="2400" spc="-1" strike="noStrike" baseline="-25000">
                <a:solidFill>
                  <a:srgbClr val="ffffff"/>
                </a:solidFill>
                <a:latin typeface="Times New Roman"/>
              </a:rPr>
              <a:t>III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: a disponibilidade e o grau de regularização da oferta hídric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10160" indent="-43668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104472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Fator F</a:t>
            </a:r>
            <a:r>
              <a:rPr b="0" lang="pt-BR" sz="2400" spc="-1" strike="noStrike" baseline="-25000">
                <a:solidFill>
                  <a:srgbClr val="ffffff"/>
                </a:solidFill>
                <a:latin typeface="Times New Roman"/>
              </a:rPr>
              <a:t>IV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: as proporcionalidades da vazão outorgada e do uso consumptivo em relação à vazão outorgá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10160" indent="-43668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104472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Fator F</a:t>
            </a:r>
            <a:r>
              <a:rPr b="0" lang="pt-BR" sz="2400" spc="-1" strike="noStrike" baseline="-25000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: Outros fatores, estabelecidos a critério do CERH/P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04472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Fórmula de Determinação do Coeficiente:    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Kr = </a:t>
            </a:r>
            <a:r>
              <a:rPr b="0" lang="pt-BR" sz="24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(Pi*Fi) / </a:t>
            </a:r>
            <a:r>
              <a:rPr b="0" lang="pt-BR" sz="24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 P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Paraná :Fórmulas de Cobrança: Coeficiente Sazonal 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87631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just">
              <a:lnSpc>
                <a:spcPct val="12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104472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e-se à possibilidade de serem estabelecidos valores de cobrança distintos para diferentes épocas do an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104472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104472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us valores, ou escalas de variação, poderão ser sugeridos, pela SUDERHSA, como subsídios à sua definição pelos CBH’s e respectivas UED’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7866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Times New Roman"/>
              </a:rPr>
              <a:t>Paraná : Fórmulas de Cobranç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0" y="91404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7960" indent="-50796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04472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ra derivações ou captação de parcela de água existente em um corpo hídrico, para consumo final, inclusive abastecimento público ou insumo de processo produtivo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07960" indent="-50796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04472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a) Captaçõ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0"/>
                <a:tab algn="l" pos="104472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07960" indent="0">
              <a:spcBef>
                <a:spcPts val="601"/>
              </a:spcBef>
              <a:buNone/>
              <a:tabLst>
                <a:tab algn="l" pos="104472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990720" y="2489040"/>
            <a:ext cx="9524880" cy="436896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2738520"/>
            <a:ext cx="11430000" cy="398124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0" y="762120"/>
            <a:ext cx="914400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07960" indent="-507960">
              <a:lnSpc>
                <a:spcPct val="100000"/>
              </a:lnSpc>
              <a:spcBef>
                <a:spcPts val="624"/>
              </a:spcBef>
              <a:spcAft>
                <a:spcPts val="624"/>
              </a:spcAft>
              <a:buClr>
                <a:srgbClr val="ffffff"/>
              </a:buClr>
              <a:buFont typeface="Arial"/>
              <a:buAutoNum type="romanUcPeriod"/>
              <a:tabLst>
                <a:tab algn="l" pos="104472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Para derivações ou captação de parcela de água existente em um corpo hídrico, para consumo final, inclusive abastecimento público ou insumo de processo produtivo</a:t>
            </a: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07960" indent="-507960">
              <a:lnSpc>
                <a:spcPct val="100000"/>
              </a:lnSpc>
              <a:spcBef>
                <a:spcPts val="624"/>
              </a:spcBef>
              <a:spcAft>
                <a:spcPts val="624"/>
              </a:spcAft>
              <a:tabLst>
                <a:tab algn="l" pos="0"/>
                <a:tab algn="l" pos="104472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b) </a:t>
            </a:r>
            <a:r>
              <a:rPr b="1" lang="pt-BR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Derivações de água dentro da área territorial de abrangência de um mesmo Comitê de Bacia Hidrográfic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507960">
              <a:lnSpc>
                <a:spcPct val="100000"/>
              </a:lnSpc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104472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07960" indent="-507960">
              <a:lnSpc>
                <a:spcPct val="100000"/>
              </a:lnSpc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104472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Times New Roman"/>
              </a:rPr>
              <a:t>Paraná : Fórmulas de Cobranç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-838080" y="990720"/>
            <a:ext cx="99820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952560" algn="just">
              <a:lnSpc>
                <a:spcPct val="100000"/>
              </a:lnSpc>
              <a:spcBef>
                <a:spcPts val="624"/>
              </a:spcBef>
              <a:spcAft>
                <a:spcPts val="624"/>
              </a:spcAft>
              <a:tabLst>
                <a:tab algn="l" pos="0"/>
                <a:tab algn="l" pos="666720"/>
                <a:tab algn="l" pos="762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II. Para extração de água de aqüífero subterrâneo para consumo final, inclusive abastecimento público ou insumo de processo produtiv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762120" indent="-762120">
              <a:lnSpc>
                <a:spcPct val="100000"/>
              </a:lnSpc>
              <a:spcBef>
                <a:spcPts val="624"/>
              </a:spcBef>
              <a:spcAft>
                <a:spcPts val="624"/>
              </a:spcAft>
              <a:tabLst>
                <a:tab algn="l" pos="0"/>
                <a:tab algn="l" pos="66672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28600" y="1752480"/>
            <a:ext cx="11049120" cy="465768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Times New Roman"/>
              </a:rPr>
              <a:t>Paraná : Fórmulas de Cobranç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-152280" y="762120"/>
            <a:ext cx="929628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1174680" indent="-698400" algn="just">
              <a:lnSpc>
                <a:spcPct val="100000"/>
              </a:lnSpc>
              <a:spcBef>
                <a:spcPts val="624"/>
              </a:spcBef>
              <a:spcAft>
                <a:spcPts val="624"/>
              </a:spcAft>
              <a:tabLst>
                <a:tab algn="l" pos="0"/>
                <a:tab algn="l" pos="47628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III.</a:t>
            </a:r>
            <a:r>
              <a:rPr b="1" lang="pt-BR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1" lang="pt-BR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para lançamento em corpo de água, de esgotos e demais resíduos líquidos ou gasosos, tratados ou não, com o fim de sua diluição, transporte ou disposição final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238880" cy="510696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Times New Roman"/>
              </a:rPr>
              <a:t>Paraná : Fórmulas de Cobranç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913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cc00"/>
                </a:solidFill>
                <a:latin typeface="Arial"/>
              </a:rPr>
              <a:t>Estado do Paraná</a:t>
            </a:r>
            <a:br>
              <a:rPr sz="3200"/>
            </a:br>
            <a:r>
              <a:rPr b="1" lang="pt-BR" sz="3200" spc="-1" strike="noStrike">
                <a:solidFill>
                  <a:srgbClr val="ffcc00"/>
                </a:solidFill>
                <a:latin typeface="Arial"/>
              </a:rPr>
              <a:t>Valores Unitários de Referênc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457200" y="1060560"/>
          <a:ext cx="8305920" cy="5797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060560"/>
                    <a:ext cx="8305920" cy="579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3" name=""/>
          <p:cNvGraphicFramePr/>
          <p:nvPr/>
        </p:nvGraphicFramePr>
        <p:xfrm>
          <a:off x="644400" y="108000"/>
          <a:ext cx="7869240" cy="6481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4400" y="108000"/>
                    <a:ext cx="7869240" cy="648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5" name=""/>
          <p:cNvGraphicFramePr/>
          <p:nvPr/>
        </p:nvGraphicFramePr>
        <p:xfrm>
          <a:off x="227160" y="1598760"/>
          <a:ext cx="8686800" cy="4211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7160" y="1598760"/>
                    <a:ext cx="8686800" cy="421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7" name=""/>
          <p:cNvGraphicFramePr/>
          <p:nvPr/>
        </p:nvGraphicFramePr>
        <p:xfrm>
          <a:off x="0" y="176040"/>
          <a:ext cx="9144000" cy="6505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6040"/>
                    <a:ext cx="9144000" cy="650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85800" y="152280"/>
            <a:ext cx="7620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cc00"/>
                </a:solidFill>
                <a:latin typeface="Arial"/>
              </a:rPr>
              <a:t>Cobrança pelo Uso da Água</a:t>
            </a:r>
            <a:br>
              <a:rPr sz="3200"/>
            </a:br>
            <a:r>
              <a:rPr b="1" lang="pt-BR" sz="3200" spc="-1" strike="noStrike">
                <a:solidFill>
                  <a:srgbClr val="ffcc00"/>
                </a:solidFill>
                <a:latin typeface="Arial"/>
              </a:rPr>
              <a:t>Estado de São Paulo - PL 676/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2120" y="175248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De quem cobrar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2749680"/>
            <a:ext cx="891540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cc00"/>
                </a:solidFill>
                <a:latin typeface="Arial"/>
              </a:rPr>
              <a:t>Dos que se utilizam diretamente do </a:t>
            </a:r>
            <a:r>
              <a:rPr b="1" lang="pt-BR" sz="2400" spc="-1" strike="noStrike">
                <a:solidFill>
                  <a:srgbClr val="e8bd1e"/>
                </a:solidFill>
                <a:latin typeface="Arial"/>
              </a:rPr>
              <a:t>recurso hídrico</a:t>
            </a:r>
            <a:r>
              <a:rPr b="1" lang="pt-BR" sz="2400" spc="-1" strike="noStrike">
                <a:solidFill>
                  <a:srgbClr val="ffcc00"/>
                </a:solidFill>
                <a:latin typeface="Arial"/>
              </a:rPr>
              <a:t> (superficial ou subterrâneo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ffcc00"/>
                </a:solidFill>
                <a:latin typeface="Arial"/>
              </a:rPr>
              <a:t>Serviços de Água e Esgo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ffcc00"/>
                </a:solidFill>
                <a:latin typeface="Arial"/>
              </a:rPr>
              <a:t>Indústr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ffcc00"/>
                </a:solidFill>
                <a:latin typeface="Arial"/>
              </a:rPr>
              <a:t>Irrigantes</a:t>
            </a:r>
            <a:br>
              <a:rPr sz="2400"/>
            </a:br>
            <a:r>
              <a:rPr b="1" lang="pt-BR" sz="2400" spc="-1" strike="noStrike">
                <a:solidFill>
                  <a:srgbClr val="ffcc00"/>
                </a:solidFill>
                <a:latin typeface="Arial"/>
              </a:rPr>
              <a:t>	</a:t>
            </a:r>
            <a:br>
              <a:rPr sz="2400"/>
            </a:br>
            <a:r>
              <a:rPr b="1" lang="pt-BR" sz="24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ffcc00"/>
                </a:solidFill>
                <a:latin typeface="Arial"/>
              </a:rPr>
              <a:t>Outros (geração hidrelétrica, mineração, lazer, </a:t>
            </a:r>
            <a:r>
              <a:rPr b="1" lang="pt-BR" sz="24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ffcc00"/>
                </a:solidFill>
                <a:latin typeface="Arial"/>
              </a:rPr>
              <a:t>aquicultura, navegação, etc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304920" y="117360"/>
            <a:ext cx="8839080" cy="63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Usos insignificantes - Proposta COPPE para CEIV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- Um </a:t>
            </a: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percentual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 da vazão de referência : por exemplo 0,5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- Um </a:t>
            </a: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limite mínimo para vazões acima da vazão insignificante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 abaixo da qual todos os usos seriam considerados insignificantes : por exemplo, ao se adotar o percentual de 0,5% de em um córrego de 10 l/s de vazão de referência, os usuários utilizando menos de 0,05 l/s estariam dispensados de outorg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- Um </a:t>
            </a: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limite mínimo para vazões abaixo da vazão insignificante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 acima do qual nenhum uso seria dispensado de outorga : supondo este valor como igual a 0,5 l/s, o percentual de 0,5% da vazão de referência no Paraíba do Sul, a jusante de Santa Cecília, que corresponde a 500 l/s, não seria aplicável, prevalecendo, portanto, o limite de 0,5 l/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O CEIVAP, para os próximos 2 anos após iniciada a cobrança, pretende adotar como insignificante captação até 1 l/s para toda a bacia do Paraíb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304920" y="0"/>
            <a:ext cx="8381880" cy="68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Critérios p/ outros setores usuários - Proposta COPPE p/ CEIV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Energia hidrelétrica : 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usinas com potência &lt;= 1 Mw isento de cobrança, até 30Mw pagariam 0,75% do faturamento a título de cobrança pelo uso da água (aprovado na Câmara Técnica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Agricultura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 : aplicando-se metodologia aprovada p/ saneamento e indústria e consumo de 0,4, para a cultura do arroz ( captação de 20.736m</a:t>
            </a:r>
            <a:r>
              <a:rPr b="0" lang="pt-BR" sz="20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/ha/ano) e cana-de açúcar (16.500) a cobrança de R$331,78 e R$260,70 /ha/ano, ou 17,28% e 12,59% do custo, considerado de difícil absorção pelos usuários. Foi proposto PPU = R$0,001 p/ o setor de irrigação (R$16,59 e R$13,03/ha/ano, 0,86% e 0,60%  do cust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Pecuária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 : captação 100 l/dia/BEDA ou 36,5 m</a:t>
            </a:r>
            <a:r>
              <a:rPr b="0" lang="pt-BR" sz="20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/ano. Com PPU igual à proposta para a agricultura, cobrança de R$0,03/ano/BE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Transposição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 Bacia do Paraíba (federal) para Bacia do Guandu (estadual): Partição da cobrança entre setores usuários : hidrelétrica, saneamento, termoelétrica e indústri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Mineração : em cava seca ou alagada é água subterrânea, portanto fora da cobrança federal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" y="14400"/>
            <a:ext cx="891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cc00"/>
                </a:solidFill>
                <a:latin typeface="Arial"/>
              </a:rPr>
              <a:t>Critérios Gerais : Parâmetros a serem cobr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des_rio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924680" cy="54403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4038480" y="6172200"/>
            <a:ext cx="2438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Vazão Consumi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336840"/>
            <a:ext cx="243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Vazão Capt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733920"/>
            <a:ext cx="198108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Vazão</a:t>
            </a:r>
            <a:br>
              <a:rPr sz="2000"/>
            </a:b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Restituída (transporte de efluent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(carga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20745600">
            <a:off x="6629400" y="1752120"/>
            <a:ext cx="25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Recursos Hídr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232320" y="4125960"/>
            <a:ext cx="2034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Vazão extraída</a:t>
            </a:r>
            <a:br>
              <a:rPr sz="2000"/>
            </a:b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Vazão derivada</a:t>
            </a:r>
            <a:br>
              <a:rPr sz="2000"/>
            </a:br>
            <a:br>
              <a:rPr sz="2000"/>
            </a:b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Outros us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0"/>
            <a:ext cx="312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cc00"/>
                </a:solidFill>
                <a:latin typeface="Arial"/>
              </a:rPr>
              <a:t>Como  cobrar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438280" y="685800"/>
            <a:ext cx="6705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cc00"/>
                </a:solidFill>
                <a:latin typeface="Arial"/>
              </a:rPr>
              <a:t>Há proposta de adoção 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cc00"/>
                </a:solidFill>
                <a:latin typeface="Arial"/>
              </a:rPr>
              <a:t>Preços Unitários Básicos para todo o Estado e coeficientes multiplicadores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1" lang="pt-BR" sz="24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 de água captad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1" lang="pt-BR" sz="24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  de água consumid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3200400"/>
            <a:ext cx="914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Proposta do Grupo Técnico do CORHI para cargas</a:t>
            </a:r>
            <a:br>
              <a:rPr sz="2400"/>
            </a:b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(não incluída no PL)</a:t>
            </a:r>
            <a:br>
              <a:rPr sz="2400"/>
            </a:b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ffcc00"/>
                </a:solidFill>
                <a:latin typeface="Arial"/>
              </a:rPr>
              <a:t>kg de lançamento de DBO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ffcc00"/>
                </a:solidFill>
                <a:latin typeface="Arial"/>
              </a:rPr>
              <a:t>kg de lançamento de DQO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ffcc00"/>
                </a:solidFill>
                <a:latin typeface="Arial"/>
              </a:rPr>
              <a:t>litro de lançamento de RS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ffcc00"/>
                </a:solidFill>
                <a:latin typeface="Arial"/>
              </a:rPr>
              <a:t>kg de lançamento de 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cc00"/>
                </a:solidFill>
                <a:latin typeface="Arial"/>
              </a:rPr>
              <a:t>Coeficientes multiplicadores para considerar diversos fatores</a:t>
            </a:r>
            <a:br>
              <a:rPr sz="2400"/>
            </a:br>
            <a:r>
              <a:rPr b="1" lang="pt-BR" sz="2400" spc="-1" strike="noStrike">
                <a:solidFill>
                  <a:srgbClr val="ffcc00"/>
                </a:solidFill>
                <a:latin typeface="Arial"/>
              </a:rPr>
              <a:t>sazonalidade, finalidade, classe, disponibilidade, etc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762120" y="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cc00"/>
                </a:solidFill>
                <a:latin typeface="Arial"/>
              </a:rPr>
              <a:t>Exemplo de diferenciação de preços</a:t>
            </a:r>
            <a:r>
              <a:rPr b="1" lang="pt-BR" sz="2400" spc="-1" strike="noStrike">
                <a:solidFill>
                  <a:srgbClr val="ffcc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685800"/>
            <a:ext cx="85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cc00"/>
                </a:solidFill>
                <a:latin typeface="Arial"/>
              </a:rPr>
              <a:t>Coeficientes  Multiplicadores  para  Captação  em  Manancial  Superfic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609480" y="762120"/>
          <a:ext cx="8533080" cy="4776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762120"/>
                    <a:ext cx="8533080" cy="477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"/>
          <p:cNvSpPr/>
          <p:nvPr/>
        </p:nvSpPr>
        <p:spPr>
          <a:xfrm>
            <a:off x="2133720" y="5302080"/>
            <a:ext cx="7010280" cy="156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cc00"/>
                </a:solidFill>
                <a:latin typeface="Arial"/>
              </a:rPr>
              <a:t>Anos 1 a 10: etapas de de implantação gradual da cobrança (exemplo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cc00"/>
                </a:solidFill>
                <a:latin typeface="Arial"/>
              </a:rPr>
              <a:t>Coeficientes multiplicadores indicados apenas para fins ilustrativ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cc00"/>
                </a:solidFill>
                <a:latin typeface="Arial"/>
              </a:rPr>
              <a:t>Cada Comitê de Bacia vai indicar seus coeficie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4876920" y="2743200"/>
            <a:ext cx="0" cy="685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876920" y="3429000"/>
            <a:ext cx="19810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14800" y="2666880"/>
            <a:ext cx="0" cy="1143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114800" y="3809880"/>
            <a:ext cx="18288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2743200"/>
            <a:ext cx="0" cy="1371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429000" y="4114800"/>
            <a:ext cx="15238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3720" y="2743200"/>
            <a:ext cx="0" cy="17524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133720" y="4495680"/>
            <a:ext cx="29718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5800" y="2819520"/>
            <a:ext cx="0" cy="20574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4876920"/>
            <a:ext cx="29718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55760" y="0"/>
            <a:ext cx="8686800" cy="572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cc00"/>
                </a:solidFill>
                <a:latin typeface="Arial"/>
              </a:rPr>
              <a:t>Preços unitários fina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Century Gothic"/>
              </a:rPr>
              <a:t>Preço unit. final = Preço unit. básico x coef1. x coef2. .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entury Gothic"/>
              </a:rPr>
              <a:t>PUF</a:t>
            </a:r>
            <a:r>
              <a:rPr b="1" lang="pt-BR" sz="2400" spc="-1" strike="noStrike" baseline="-25000">
                <a:solidFill>
                  <a:srgbClr val="000000"/>
                </a:solidFill>
                <a:latin typeface="Century Gothic"/>
              </a:rPr>
              <a:t>Cap</a:t>
            </a:r>
            <a:r>
              <a:rPr b="1" lang="pt-BR" sz="2400" spc="-1" strike="noStrike">
                <a:solidFill>
                  <a:srgbClr val="000000"/>
                </a:solidFill>
                <a:latin typeface="Century Gothic"/>
              </a:rPr>
              <a:t> = PUB</a:t>
            </a:r>
            <a:r>
              <a:rPr b="1" lang="pt-BR" sz="2400" spc="-1" strike="noStrike" baseline="-25000">
                <a:solidFill>
                  <a:srgbClr val="000000"/>
                </a:solidFill>
                <a:latin typeface="Century Gothic"/>
              </a:rPr>
              <a:t>Cap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Century Gothic"/>
              </a:rPr>
              <a:t>. </a:t>
            </a:r>
            <a:r>
              <a:rPr b="1" lang="pt-BR" sz="2400" spc="-1" strike="noStrike">
                <a:solidFill>
                  <a:srgbClr val="000000"/>
                </a:solidFill>
                <a:latin typeface="Century Gothic"/>
              </a:rPr>
              <a:t>X</a:t>
            </a:r>
            <a:r>
              <a:rPr b="1" lang="pt-BR" sz="2400" spc="-1" strike="noStrike" baseline="-25000">
                <a:solidFill>
                  <a:srgbClr val="000000"/>
                </a:solidFill>
                <a:latin typeface="Century Gothic"/>
              </a:rPr>
              <a:t>1</a:t>
            </a:r>
            <a:r>
              <a:rPr b="1" lang="pt-BR" sz="2400" spc="-1" strike="noStrike">
                <a:solidFill>
                  <a:srgbClr val="000000"/>
                </a:solidFill>
                <a:latin typeface="Century Gothic"/>
              </a:rPr>
              <a:t>  .</a:t>
            </a:r>
            <a:r>
              <a:rPr b="0" lang="pt-BR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Century Gothic"/>
              </a:rPr>
              <a:t> X</a:t>
            </a:r>
            <a:r>
              <a:rPr b="1" lang="pt-BR" sz="2400" spc="-1" strike="noStrike" baseline="-25000">
                <a:solidFill>
                  <a:srgbClr val="000000"/>
                </a:solidFill>
                <a:latin typeface="Century Gothic"/>
              </a:rPr>
              <a:t>2</a:t>
            </a:r>
            <a:r>
              <a:rPr b="1" lang="pt-BR" sz="2400" spc="-1" strike="noStrike">
                <a:solidFill>
                  <a:srgbClr val="000000"/>
                </a:solidFill>
                <a:latin typeface="Century Gothic"/>
              </a:rPr>
              <a:t>  .</a:t>
            </a:r>
            <a:r>
              <a:rPr b="0" lang="pt-BR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Century Gothic"/>
              </a:rPr>
              <a:t> X</a:t>
            </a:r>
            <a:r>
              <a:rPr b="1" lang="pt-BR" sz="2400" spc="-1" strike="noStrike" baseline="-25000">
                <a:solidFill>
                  <a:srgbClr val="000000"/>
                </a:solidFill>
                <a:latin typeface="Century Gothic"/>
              </a:rPr>
              <a:t>3</a:t>
            </a:r>
            <a:r>
              <a:rPr b="1" lang="pt-BR" sz="2400" spc="-1" strike="noStrike">
                <a:solidFill>
                  <a:srgbClr val="000000"/>
                </a:solidFill>
                <a:latin typeface="Century Gothic"/>
              </a:rPr>
              <a:t>  .</a:t>
            </a:r>
            <a:r>
              <a:rPr b="0" lang="pt-BR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Century Gothic"/>
              </a:rPr>
              <a:t> .......  </a:t>
            </a:r>
            <a:r>
              <a:rPr b="0" lang="pt-BR" sz="2400" spc="-1" strike="noStrike">
                <a:solidFill>
                  <a:srgbClr val="000000"/>
                </a:solidFill>
                <a:latin typeface="Century Gothic"/>
              </a:rPr>
              <a:t>.</a:t>
            </a:r>
            <a:r>
              <a:rPr b="1" lang="pt-BR" sz="2400" spc="-1" strike="noStrike">
                <a:solidFill>
                  <a:srgbClr val="000000"/>
                </a:solidFill>
                <a:latin typeface="Century Gothic"/>
              </a:rPr>
              <a:t>  X</a:t>
            </a:r>
            <a:r>
              <a:rPr b="1" lang="pt-BR" sz="2400" spc="-1" strike="noStrike" baseline="-25000">
                <a:solidFill>
                  <a:srgbClr val="000000"/>
                </a:solidFill>
                <a:latin typeface="Century Gothic"/>
              </a:rPr>
              <a:t>n</a:t>
            </a:r>
            <a:r>
              <a:rPr b="0" lang="pt-BR" sz="2400" spc="-1" strike="noStrike">
                <a:solidFill>
                  <a:srgbClr val="000000"/>
                </a:solidFill>
                <a:latin typeface="Century Gothic"/>
              </a:rPr>
              <a:t>                                                                      </a:t>
            </a:r>
            <a:r>
              <a:rPr b="0" lang="pt-BR" sz="24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Century Gothic"/>
              </a:rPr>
              <a:t>     Outros   </a:t>
            </a:r>
            <a:r>
              <a:rPr b="0" lang="pt-BR" sz="24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Century Gothic"/>
              </a:rPr>
              <a:t>       </a:t>
            </a:r>
            <a:r>
              <a:rPr b="0" lang="pt-BR" sz="24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Century Gothic"/>
              </a:rPr>
              <a:t>         Sazonalida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entury Gothic"/>
              </a:rPr>
              <a:t>                                           </a:t>
            </a:r>
            <a:r>
              <a:rPr b="0" lang="pt-BR" sz="2400" spc="-1" strike="noStrike">
                <a:solidFill>
                  <a:srgbClr val="000000"/>
                </a:solidFill>
                <a:latin typeface="Century Gothic"/>
              </a:rPr>
              <a:t>Classe do 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entury Gothic"/>
              </a:rPr>
              <a:t>                                   </a:t>
            </a:r>
            <a:r>
              <a:rPr b="0" lang="pt-BR" sz="2400" spc="-1" strike="noStrike">
                <a:solidFill>
                  <a:srgbClr val="000000"/>
                </a:solidFill>
                <a:latin typeface="Century Gothic"/>
              </a:rPr>
              <a:t>Finalida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entury Gothic"/>
              </a:rPr>
              <a:t>                    </a:t>
            </a:r>
            <a:r>
              <a:rPr b="0" lang="pt-BR" sz="2400" spc="-1" strike="noStrike">
                <a:solidFill>
                  <a:srgbClr val="000000"/>
                </a:solidFill>
                <a:latin typeface="Century Gothic"/>
              </a:rPr>
              <a:t>Preço Unitário Bás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Century Gothic"/>
              </a:rPr>
              <a:t>Preço Unitário Fi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73320" y="5145120"/>
            <a:ext cx="80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aptação : preço máximo R$0,01/m</a:t>
            </a:r>
            <a:r>
              <a:rPr b="1" lang="pt-BR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, conforme PL 67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853920" y="0"/>
            <a:ext cx="8061480" cy="50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7fc22"/>
                </a:solidFill>
                <a:latin typeface="Arial"/>
              </a:rPr>
              <a:t>Seqüência para a fixação dos preç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- Estabelecimento de limites e condicionantes pelo CR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- Proposta pelos Comitês de Bacia Hidrográfica dos valores a serem cobrados na Ba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- Referenda, pelo CRH das propostas dos Comitês dos valores da cobranç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- Aprovação e fixação dos valores por decreto do Governa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685800"/>
            <a:ext cx="9144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7fc22"/>
                </a:solidFill>
                <a:latin typeface="Arial"/>
              </a:rPr>
              <a:t>Recursos financeiros arrecadados com a cobranç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- Vinculados aos Planos de Ba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- Aplicados na bacia onde foi arrecadado. Em outra bacia só se o Comitê onde foi arrecadado o recurso aprov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- Tomadores serão os próprios usuários-pagadores e as entidades participantes de atividades afetas ao SIGR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- A Assembléia Legislativa poderá designar Comissões de Acompanhamento e Fiscalização da aplicação dos recurs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- 90% para investimento nos programas e 10% para custe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Depositados nas subcontas do FEHIDRO para cada Colegi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07T17:56:41Z</dcterms:created>
  <dc:creator>DRH</dc:creator>
  <dc:description/>
  <dc:language>en-US</dc:language>
  <cp:lastModifiedBy>DRH</cp:lastModifiedBy>
  <cp:lastPrinted>2002-08-09T18:34:11Z</cp:lastPrinted>
  <dcterms:modified xsi:type="dcterms:W3CDTF">2002-08-09T18:44:17Z</dcterms:modified>
  <cp:revision>113</cp:revision>
  <dc:subject/>
  <dc:title>Slide sem título </dc:title>
</cp:coreProperties>
</file>